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CD77-DDE9-45F5-902E-2F71FC8C9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EC98-5F02-4E9D-A1B5-1E147738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33D6-D663-42E1-9F81-F28CAC61A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958F-3AB4-4C45-AADE-71D178E9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5E6D-15C5-4369-A8ED-A3E7819A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71A7-6975-439D-A860-DBE6C58C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0465-D5ED-4130-8884-AD3CF5C1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A99B-6F24-4AF2-88DF-CB322475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DCDF-480F-454C-938D-B3BB2A08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C44E-C92E-4543-89C1-882F9521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5085-6094-4025-9349-ED8383FC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154F-7CC0-4B27-B2EE-574E1E06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8B53-54FA-4DB5-BD72-ADD272A53978}" type="datetime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8F94-0068-405D-B784-3598721857B4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51424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Project JERRY Sprint Planning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629604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Yang Yong Qi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 S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, 28.02.2006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1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6880" y="744480"/>
          <a:ext cx="8305920" cy="394200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ontact list and menu options (Without functionality inside) after pressing Contact hard k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list address boo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isplay menu options with some functions, e.g. copy, delete, ad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Remove or disable or hide fea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3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Java (remov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evelopment test and Sprint 1 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3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26880" y="744480"/>
          <a:ext cx="8305920" cy="529272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Tips including sub-men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/1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/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up Assista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Enter own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-up/power on dialo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ate and time setup (covered by Sprint 2 - Setting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UI adaption on network sel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how call setting: call barring incoming/outgoing if abroad (new ), effect in Id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26880" y="750960"/>
          <a:ext cx="8305920" cy="575604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ontact list and menu options (Without functionality inside) after pressing Contact hard k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ontact edi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rge entry in sim to contact li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omplicated functions: add reminder, sim backup w/o view 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all record look and fe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7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olume side key, Ringer side key and lock key invo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5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ringer side key in id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olume side key in c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9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lock k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9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5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26880" y="750960"/>
          <a:ext cx="8305920" cy="556416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creen transitions (Sliding eff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liding eff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ynchronization including remote sync and sync with S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yncML UI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yncML workflow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ett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ring tong, keypad tone, time/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isplay my number, language, change P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Templates/Draf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Unified Inbox (Layou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26880" y="750960"/>
          <a:ext cx="8305920" cy="411156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iew contact 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new msg info table support in PIM 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orting mechani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UI implementation in P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export interface (insert contact, select contact) to external appl. i.e. messaging, ID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all record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26880" y="750960"/>
          <a:ext cx="8305920" cy="438444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Remove or disable or hide fea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rda, BT (remov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amera (remov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rowser (hi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howing UI notification about accessory from connectivity (disabl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ustom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evelopment test and Sprint 2 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3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26880" y="750960"/>
          <a:ext cx="8305920" cy="328932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3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Key lock screen after switching the key lock hard ke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nbox UI (all message lis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ettings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up Assista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yncML invo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new event dialog (part of Unified Inbox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3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26880" y="750960"/>
          <a:ext cx="8305920" cy="501336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3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oice call screens full fun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all call li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handling different network release co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all remin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n-call menu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oice messag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iew and edi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end and rece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3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26880" y="750960"/>
          <a:ext cx="8305920" cy="555624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3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sg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get and update msg table from inbox UI/sent msg U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elete msg and delete 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MS/MMS client upd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icture messag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ssage Set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nu look and feel - full compli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UIOS full compliance (incl. progress ba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F menu full compliance (incl. progress ba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3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26880" y="750960"/>
          <a:ext cx="8305920" cy="556740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ontact list and menu options (Without functionality inside) after pressing Contact hard k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launch external application, e.g. Voice Messaging, SMS, c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IM sett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creen transitions (Sliding eff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nu selection tran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opup tran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iew contact lo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adaption in messag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CONTENT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1067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Resource Profile  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81080"/>
            <a:ext cx="8305920" cy="1217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330720"/>
            <a:ext cx="8305920" cy="1326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Current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3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26880" y="750960"/>
          <a:ext cx="8305920" cy="491796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Remove or disable or hide fea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M remo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RM (disabl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F Simply Alarm Clo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3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list all alarm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ustom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evelopment test and Sprint 3 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3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4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26880" y="750960"/>
          <a:ext cx="8305920" cy="501336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split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elcome t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harging display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nterruption by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3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eparation of Call functionality from the Id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all CSM Message Hand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1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ial Dialog Updation Hand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3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4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26880" y="750960"/>
          <a:ext cx="8305920" cy="528012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leep mode with timer sett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ack to last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creen saver handling in id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Text Message (SM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iew and edi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end and rece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hover functionality in Contact li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mplementation by U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IM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ssaging ada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4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6880" y="750960"/>
          <a:ext cx="8305920" cy="464796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F Simply Alarm Clo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time/date edi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alarm tex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Alarm tone/volume/vib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nu options in alarm clock, i.e. delete, ad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1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Unified Inbox Functi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Unified sent mess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elete (All) wiz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29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4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26880" y="750960"/>
          <a:ext cx="8305920" cy="2665440"/>
        </p:xfrm>
        <a:graphic>
          <a:graphicData uri="http://schemas.openxmlformats.org/drawingml/2006/table">
            <a:tbl>
              <a:tblPr/>
              <a:tblGrid>
                <a:gridCol w="2266920"/>
                <a:gridCol w="2373480"/>
                <a:gridCol w="1201680"/>
                <a:gridCol w="104616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sg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7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ync between message table in PIM and message DB in AppMs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4/24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5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ustom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5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3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Development test and Sprint 4 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2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6/30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Current Statu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Database setup done in SISL, Beijing and AAL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Sprint 1 development in progres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    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PL SW: Yang Yong Qiang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9 years in software development Mobile phones and IS-95 CDMA Basestatio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Leading Java topics in Beijing R&amp;D Center, BenQ/Siemens Mobile, incl. CLDC HI, DoJa, JSR177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PL SW Dorado and Libra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	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PL Feature: Hu Chun Ya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8 years in software development Mobile phon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Leading DoJa Development in Beijing R&amp;D Center, BenQ/Siemens Mobil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0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	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BenQ Beijing Development Team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More than 5 years SW development experience on average, with 2 years in BenQ/Siemens Mobile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System Architect: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宋体"/>
              </a:rPr>
              <a:t>Stefan Burkert (coach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宋体"/>
              </a:rPr>
              <a:t>Chen Mia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Development Team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宋体"/>
              </a:rPr>
              <a:t>Cui Yi (Lead)                             Lu Qi Wen (SW Arch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宋体"/>
              </a:rPr>
              <a:t>Song Wen Juan (SW Arch)       Yi Xiao Qiang (SE*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宋体"/>
              </a:rPr>
              <a:t>Zhou Tong (SE*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宋体"/>
              </a:rPr>
              <a:t>2 local consultant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宋体"/>
              </a:rPr>
              <a:t>-- SE* = Senior Engineer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	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SISL PL off-shore: Rajeev Chauha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11.5 years in software development and system testing for Mobile phones, UMTS NodeB OAM, transportation systems and protocol developmen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SISL Development Team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More than 5 years SW development experience on average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Rajeev Bhatia: Architect AppMsg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Sunisha Aggarwal: Architect AppBase/Avata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Gagan Kashyap: Architect AppBase/AppIDC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25 SW Engineers (with 2 - 11 years experience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1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53880" y="812880"/>
          <a:ext cx="8305920" cy="5538600"/>
        </p:xfrm>
        <a:graphic>
          <a:graphicData uri="http://schemas.openxmlformats.org/drawingml/2006/table">
            <a:tbl>
              <a:tblPr/>
              <a:tblGrid>
                <a:gridCol w="2492640"/>
                <a:gridCol w="2314440"/>
                <a:gridCol w="735120"/>
                <a:gridCol w="1341360"/>
                <a:gridCol w="1422360"/>
              </a:tblGrid>
              <a:tr h="70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c simu set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 hard keys simulation including blinking effect for Home k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de keys sim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hanges in C_MobSIM for removing/disabling/hiding fea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8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  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-up/power on dialo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IN input including error hand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scre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Idle screen basic lay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Home/Contact/Menu hard key invo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- Feature Sprint 1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26880" y="744480"/>
          <a:ext cx="8305920" cy="5661000"/>
        </p:xfrm>
        <a:graphic>
          <a:graphicData uri="http://schemas.openxmlformats.org/drawingml/2006/table">
            <a:tbl>
              <a:tblPr/>
              <a:tblGrid>
                <a:gridCol w="2266920"/>
                <a:gridCol w="2374920"/>
                <a:gridCol w="911520"/>
                <a:gridCol w="1334880"/>
                <a:gridCol w="14176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WP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ub-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t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Fini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hone spaces, color schemes, Icons, Fo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olor scheme switching interface, define additional virtual col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text resource define color sche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phone space color scheme switching(ID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3/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Voice call screen bas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call origination, termination, call set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Headline and soft key look and fe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Menu look and feel bas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look and feel w/o tran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Beij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2/22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21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croll b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SI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6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urier New"/>
                          <a:ea typeface="宋体"/>
                        </a:rPr>
                        <a:t>3/17/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/>
  <dc:description/>
  <dc:language>en-US</dc:language>
  <cp:lastModifiedBy/>
  <dcterms:modified xsi:type="dcterms:W3CDTF">2006-02-28T07:41:02Z</dcterms:modified>
  <cp:revision>212</cp:revision>
  <dc:subject/>
  <dc:title>PowerPoint</dc:title>
</cp:coreProperties>
</file>